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87E-E864-40D1-8E55-0EEBC2B7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757-4206-440C-BCAC-D3000569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4A6-DBEB-463F-BB96-F6E0A02C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E4E-34B7-4266-B506-FEA4BBAC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08A-6EB2-4AC5-BA59-ABB1AC26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B73-558A-4006-9042-6AB8272B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CF9-35C0-403E-ABD5-4BB3B2BC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A37-A5C1-4C02-971A-7615255D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DAB-B3CA-4475-A2BF-3DCA0F2D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678-1DA1-4D7B-91A0-B693BDCF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E8D-8E01-4913-AE83-074964A2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2A0-E5A2-4174-86DC-A69DDA0E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BDBE-5889-4ADB-992F-B806B3F6FE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 Low-cost Extendable Framework for Embedded Smart Ca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ecurity System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applic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 processing applic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ing applic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i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lexibility and portable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ss Cost and compa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ffective security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ert syste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timized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oID Face Datab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Zhang Yu, “Research on High Level Model and Performance Estimation” Southeast University PHD thesis, 2007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ww.microcontroller.co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resko, J., "Winning with wireless," Industry Week, 252(6), Available ProQuest, 200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Obtainable System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Proposed System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Block Diagram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Block Definition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Application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Merit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iv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implement image-recognition techniques that can provide the important functions required by advanced intelligent Car Security, to avoid vehicle theft and protect the usage of unauthenticated us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ainable syste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t able to predict information if Car was stol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ditional car security systems rely on many sensors and cost a lo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ysical Ke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arm Syst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ed Syste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ach to the owner if some one tries to stol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utomated functions through image proces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urity maintenance by behavior recogn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ffective mobile communication for entire proc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PS module obtains the precise locality by parsing received GPS sig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1" name="Group 43"/>
          <p:cNvGrpSpPr/>
          <p:nvPr/>
        </p:nvGrpSpPr>
        <p:grpSpPr>
          <a:xfrm>
            <a:off x="304920" y="1219320"/>
            <a:ext cx="8610480" cy="5410080"/>
            <a:chOff x="304920" y="1219320"/>
            <a:chExt cx="8610480" cy="5410080"/>
          </a:xfrm>
        </p:grpSpPr>
        <p:sp>
          <p:nvSpPr>
            <p:cNvPr id="52" name="Rounded Rectangle 3"/>
            <p:cNvSpPr/>
            <p:nvPr/>
          </p:nvSpPr>
          <p:spPr>
            <a:xfrm>
              <a:off x="304920" y="2982960"/>
              <a:ext cx="18730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wer Supp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ounded Rectangle 4"/>
            <p:cNvSpPr/>
            <p:nvPr/>
          </p:nvSpPr>
          <p:spPr>
            <a:xfrm>
              <a:off x="2535120" y="2982960"/>
              <a:ext cx="196344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icrocontroll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ounded Rectangle 5"/>
            <p:cNvSpPr/>
            <p:nvPr/>
          </p:nvSpPr>
          <p:spPr>
            <a:xfrm>
              <a:off x="2624040" y="4426200"/>
              <a:ext cx="1874880" cy="960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ri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ounded Rectangle 6"/>
            <p:cNvSpPr/>
            <p:nvPr/>
          </p:nvSpPr>
          <p:spPr>
            <a:xfrm>
              <a:off x="393480" y="4345200"/>
              <a:ext cx="18748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gnition Control Un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ounded Rectangle 7"/>
            <p:cNvSpPr/>
            <p:nvPr/>
          </p:nvSpPr>
          <p:spPr>
            <a:xfrm>
              <a:off x="4856400" y="2982960"/>
              <a:ext cx="18730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RS23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" name="Picture 2" descr=""/>
            <p:cNvPicPr/>
            <p:nvPr/>
          </p:nvPicPr>
          <p:blipFill>
            <a:blip r:embed="rId1"/>
            <a:stretch/>
          </p:blipFill>
          <p:spPr>
            <a:xfrm>
              <a:off x="7443360" y="4425480"/>
              <a:ext cx="1345680" cy="127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3" descr=""/>
            <p:cNvPicPr/>
            <p:nvPr/>
          </p:nvPicPr>
          <p:blipFill>
            <a:blip r:embed="rId2"/>
            <a:stretch/>
          </p:blipFill>
          <p:spPr>
            <a:xfrm>
              <a:off x="7532640" y="2661840"/>
              <a:ext cx="138276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4" descr=""/>
            <p:cNvPicPr/>
            <p:nvPr/>
          </p:nvPicPr>
          <p:blipFill>
            <a:blip r:embed="rId3"/>
            <a:stretch/>
          </p:blipFill>
          <p:spPr>
            <a:xfrm>
              <a:off x="393840" y="5707800"/>
              <a:ext cx="1505520" cy="92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ounded Rectangle 12"/>
            <p:cNvSpPr/>
            <p:nvPr/>
          </p:nvSpPr>
          <p:spPr>
            <a:xfrm>
              <a:off x="2535120" y="1700280"/>
              <a:ext cx="18748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PS Recei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ounded Rectangle 13"/>
            <p:cNvSpPr/>
            <p:nvPr/>
          </p:nvSpPr>
          <p:spPr>
            <a:xfrm>
              <a:off x="7353360" y="1219320"/>
              <a:ext cx="14284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SM Mod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6"/>
            <p:cNvSpPr/>
            <p:nvPr/>
          </p:nvSpPr>
          <p:spPr>
            <a:xfrm>
              <a:off x="3338640" y="5707080"/>
              <a:ext cx="1873080" cy="550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558ed5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MM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Straight Arrow Connector 16"/>
            <p:cNvCxnSpPr/>
            <p:nvPr/>
          </p:nvCxnSpPr>
          <p:spPr>
            <a:xfrm>
              <a:off x="2178000" y="3463920"/>
              <a:ext cx="3578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4" name="Straight Arrow Connector 23"/>
            <p:cNvCxnSpPr/>
            <p:nvPr/>
          </p:nvCxnSpPr>
          <p:spPr>
            <a:xfrm>
              <a:off x="4498920" y="3463920"/>
              <a:ext cx="3578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5" name="Straight Arrow Connector 24"/>
            <p:cNvCxnSpPr/>
            <p:nvPr/>
          </p:nvCxnSpPr>
          <p:spPr>
            <a:xfrm>
              <a:off x="6729480" y="3463920"/>
              <a:ext cx="71496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6" name="Straight Arrow Connector 26"/>
            <p:cNvCxnSpPr/>
            <p:nvPr/>
          </p:nvCxnSpPr>
          <p:spPr>
            <a:xfrm flipV="1">
              <a:off x="8067960" y="2180880"/>
              <a:ext cx="2160" cy="48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7" name="Straight Arrow Connector 29"/>
            <p:cNvCxnSpPr/>
            <p:nvPr/>
          </p:nvCxnSpPr>
          <p:spPr>
            <a:xfrm flipH="1">
              <a:off x="3516120" y="3944880"/>
              <a:ext cx="3600" cy="48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8" name="Straight Arrow Connector 31"/>
            <p:cNvCxnSpPr/>
            <p:nvPr/>
          </p:nvCxnSpPr>
          <p:spPr>
            <a:xfrm flipV="1">
              <a:off x="8156880" y="3863520"/>
              <a:ext cx="2160" cy="48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9" name="Straight Arrow Connector 33"/>
            <p:cNvCxnSpPr/>
            <p:nvPr/>
          </p:nvCxnSpPr>
          <p:spPr>
            <a:xfrm flipH="1" flipV="1">
              <a:off x="2177280" y="4905000"/>
              <a:ext cx="446760" cy="36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70" name="Straight Arrow Connector 38"/>
            <p:cNvCxnSpPr/>
            <p:nvPr/>
          </p:nvCxnSpPr>
          <p:spPr>
            <a:xfrm flipH="1">
              <a:off x="3516120" y="2662200"/>
              <a:ext cx="3600" cy="3211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71" name="Curved Connector 42"/>
            <p:cNvCxnSpPr/>
            <p:nvPr/>
          </p:nvCxnSpPr>
          <p:spPr>
            <a:xfrm flipV="1">
              <a:off x="2089080" y="6108480"/>
              <a:ext cx="1072080" cy="79920"/>
            </a:xfrm>
            <a:prstGeom prst="curvedConnector5">
              <a:avLst>
                <a:gd name="adj1" fmla="val 49983"/>
                <a:gd name="adj2" fmla="val 49773"/>
                <a:gd name="adj3" fmla="val 49983"/>
              </a:avLst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Defini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consists of PC memory unit it stores the different driver imag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DS (face detection subsystem) is used to detect the face of the driver and compare it with the predefined imag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image doesn’t match then the information is send to the owner through MM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wner can trace the location through GP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y this system owner can identify the theft image as well as the location of the ca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Componen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icrocontrolle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ower suppl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Keypad se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SM modu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mer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gnition unit | Driver uni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Tool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il C cross compiler I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lash magic programmer t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cad hardware design t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sual basic 6.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lab7.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guag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bedded 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sual Basi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1:16:03Z</dcterms:created>
  <dc:creator>Electronics Projects</dc:creator>
  <dc:description>Electronics Projects</dc:description>
  <dc:language>en-US</dc:language>
  <cp:lastModifiedBy>admin</cp:lastModifiedBy>
  <dcterms:modified xsi:type="dcterms:W3CDTF">2011-08-26T11:08:43Z</dcterms:modified>
  <cp:revision>0</cp:revision>
  <dc:subject>Electronics Projects</dc:subject>
  <dc:title>ECE IEEE Projects</dc:title>
</cp:coreProperties>
</file>